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EE8B-8326-41E0-AA9E-757D68287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D1C9-EE0A-4D53-8E8F-FE2A63AA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6E5B-F7D6-40A7-A1BB-D42C0231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B659-3E8B-42A4-A889-24519D5EA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D572-4F49-4575-80B6-C71E24C69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CDE6-508E-471E-B5CE-3C9C37F0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183F-752A-48DD-8F97-AA3CB897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0E4A-7BAD-4181-84D7-BB0655EA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33AB-2938-4AE0-BE6A-E1604547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2C46-5F6A-49F7-A47D-CB3055F5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568F-C70A-45AA-8831-9495AF21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D85A-6EEA-42FC-B3E4-AB8296E9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D9A2-3AC8-4F65-828A-05C1977E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8ADD-1D2F-41BE-8FFE-7E8C8A0C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485B-2BF3-435B-A6A9-1F65F01B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B045-4107-4C72-84FE-9D4C6D4F7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B653-89AF-4A76-B93D-F6FA0D17B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F0EE-B378-4114-9F8A-627F08A5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1EA7-6DE0-406E-B71E-B951D536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DAA1-E049-4C21-AEF1-D38C2457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9785-A748-4D2E-9023-5AA1D3DD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FFEB-A825-43D3-B7B6-526E688A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2DE5-D001-49E1-99BF-7B0E5387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0722-B1A3-4862-943E-D72E08DA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4640" cy="6845400"/>
            <a:chOff x="0" y="0"/>
            <a:chExt cx="913464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15920"/>
              <a:ext cx="9134640" cy="6613560"/>
            </a:xfrm>
            <a:custGeom>
              <a:avLst/>
              <a:gdLst/>
              <a:ahLst/>
              <a:rect l="l" t="t" r="r" b="b"/>
              <a:pathLst>
                <a:path w="5754" h="4166">
                  <a:moveTo>
                    <a:pt x="5753" y="3889"/>
                  </a:moveTo>
                  <a:lnTo>
                    <a:pt x="1" y="3888"/>
                  </a:lnTo>
                  <a:lnTo>
                    <a:pt x="1" y="3948"/>
                  </a:lnTo>
                  <a:lnTo>
                    <a:pt x="5753" y="3948"/>
                  </a:lnTo>
                  <a:lnTo>
                    <a:pt x="5753" y="3996"/>
                  </a:lnTo>
                  <a:lnTo>
                    <a:pt x="1" y="3997"/>
                  </a:lnTo>
                  <a:lnTo>
                    <a:pt x="1" y="4056"/>
                  </a:lnTo>
                  <a:lnTo>
                    <a:pt x="5753" y="4056"/>
                  </a:lnTo>
                  <a:lnTo>
                    <a:pt x="5753" y="4105"/>
                  </a:lnTo>
                  <a:lnTo>
                    <a:pt x="1" y="4104"/>
                  </a:lnTo>
                  <a:lnTo>
                    <a:pt x="1" y="4165"/>
                  </a:lnTo>
                  <a:lnTo>
                    <a:pt x="5753" y="4165"/>
                  </a:lnTo>
                  <a:lnTo>
                    <a:pt x="5753" y="0"/>
                  </a:lnTo>
                  <a:lnTo>
                    <a:pt x="1" y="0"/>
                  </a:lnTo>
                  <a:lnTo>
                    <a:pt x="1" y="61"/>
                  </a:lnTo>
                  <a:lnTo>
                    <a:pt x="5753" y="60"/>
                  </a:lnTo>
                  <a:lnTo>
                    <a:pt x="5753" y="108"/>
                  </a:lnTo>
                  <a:lnTo>
                    <a:pt x="1" y="108"/>
                  </a:lnTo>
                  <a:lnTo>
                    <a:pt x="1" y="168"/>
                  </a:lnTo>
                  <a:lnTo>
                    <a:pt x="5753" y="169"/>
                  </a:lnTo>
                  <a:lnTo>
                    <a:pt x="5753" y="216"/>
                  </a:lnTo>
                  <a:lnTo>
                    <a:pt x="1" y="216"/>
                  </a:lnTo>
                  <a:lnTo>
                    <a:pt x="1" y="276"/>
                  </a:lnTo>
                  <a:lnTo>
                    <a:pt x="5753" y="277"/>
                  </a:lnTo>
                  <a:lnTo>
                    <a:pt x="5753" y="324"/>
                  </a:lnTo>
                  <a:lnTo>
                    <a:pt x="1" y="324"/>
                  </a:lnTo>
                  <a:lnTo>
                    <a:pt x="1" y="384"/>
                  </a:lnTo>
                  <a:lnTo>
                    <a:pt x="5753" y="384"/>
                  </a:lnTo>
                  <a:lnTo>
                    <a:pt x="5753" y="432"/>
                  </a:lnTo>
                  <a:lnTo>
                    <a:pt x="1" y="432"/>
                  </a:lnTo>
                  <a:lnTo>
                    <a:pt x="1" y="492"/>
                  </a:lnTo>
                  <a:lnTo>
                    <a:pt x="5753" y="493"/>
                  </a:lnTo>
                  <a:lnTo>
                    <a:pt x="5753" y="540"/>
                  </a:lnTo>
                  <a:lnTo>
                    <a:pt x="1" y="540"/>
                  </a:lnTo>
                  <a:lnTo>
                    <a:pt x="1" y="600"/>
                  </a:lnTo>
                  <a:lnTo>
                    <a:pt x="5753" y="600"/>
                  </a:lnTo>
                  <a:lnTo>
                    <a:pt x="5753" y="648"/>
                  </a:lnTo>
                  <a:lnTo>
                    <a:pt x="1" y="648"/>
                  </a:lnTo>
                  <a:lnTo>
                    <a:pt x="1" y="708"/>
                  </a:lnTo>
                  <a:lnTo>
                    <a:pt x="5753" y="709"/>
                  </a:lnTo>
                  <a:lnTo>
                    <a:pt x="5753" y="756"/>
                  </a:lnTo>
                  <a:lnTo>
                    <a:pt x="1" y="756"/>
                  </a:lnTo>
                  <a:lnTo>
                    <a:pt x="1" y="816"/>
                  </a:lnTo>
                  <a:lnTo>
                    <a:pt x="5753" y="817"/>
                  </a:lnTo>
                  <a:lnTo>
                    <a:pt x="5753" y="865"/>
                  </a:lnTo>
                  <a:lnTo>
                    <a:pt x="1" y="864"/>
                  </a:lnTo>
                  <a:lnTo>
                    <a:pt x="1" y="925"/>
                  </a:lnTo>
                  <a:lnTo>
                    <a:pt x="5753" y="925"/>
                  </a:lnTo>
                  <a:lnTo>
                    <a:pt x="5753" y="973"/>
                  </a:lnTo>
                  <a:lnTo>
                    <a:pt x="1" y="972"/>
                  </a:lnTo>
                  <a:lnTo>
                    <a:pt x="1" y="1032"/>
                  </a:lnTo>
                  <a:lnTo>
                    <a:pt x="5753" y="1033"/>
                  </a:lnTo>
                  <a:lnTo>
                    <a:pt x="5753" y="1080"/>
                  </a:lnTo>
                  <a:lnTo>
                    <a:pt x="1" y="1080"/>
                  </a:lnTo>
                  <a:lnTo>
                    <a:pt x="1" y="1140"/>
                  </a:lnTo>
                  <a:lnTo>
                    <a:pt x="5753" y="1140"/>
                  </a:lnTo>
                  <a:lnTo>
                    <a:pt x="5753" y="1188"/>
                  </a:lnTo>
                  <a:lnTo>
                    <a:pt x="1" y="1188"/>
                  </a:lnTo>
                  <a:lnTo>
                    <a:pt x="1" y="1248"/>
                  </a:lnTo>
                  <a:lnTo>
                    <a:pt x="5753" y="1248"/>
                  </a:lnTo>
                  <a:lnTo>
                    <a:pt x="5753" y="1296"/>
                  </a:lnTo>
                  <a:lnTo>
                    <a:pt x="1" y="1297"/>
                  </a:lnTo>
                  <a:lnTo>
                    <a:pt x="1" y="1357"/>
                  </a:lnTo>
                  <a:lnTo>
                    <a:pt x="5753" y="1356"/>
                  </a:lnTo>
                  <a:lnTo>
                    <a:pt x="5753" y="1404"/>
                  </a:lnTo>
                  <a:lnTo>
                    <a:pt x="1" y="1404"/>
                  </a:lnTo>
                  <a:lnTo>
                    <a:pt x="1" y="1465"/>
                  </a:lnTo>
                  <a:lnTo>
                    <a:pt x="5753" y="1464"/>
                  </a:lnTo>
                  <a:lnTo>
                    <a:pt x="5753" y="1512"/>
                  </a:lnTo>
                  <a:lnTo>
                    <a:pt x="1" y="1512"/>
                  </a:lnTo>
                  <a:lnTo>
                    <a:pt x="1" y="1572"/>
                  </a:lnTo>
                  <a:lnTo>
                    <a:pt x="5753" y="1572"/>
                  </a:lnTo>
                  <a:lnTo>
                    <a:pt x="5753" y="1620"/>
                  </a:lnTo>
                  <a:lnTo>
                    <a:pt x="1" y="1620"/>
                  </a:lnTo>
                  <a:lnTo>
                    <a:pt x="1" y="1680"/>
                  </a:lnTo>
                  <a:lnTo>
                    <a:pt x="5753" y="1681"/>
                  </a:lnTo>
                  <a:lnTo>
                    <a:pt x="5753" y="1728"/>
                  </a:lnTo>
                  <a:lnTo>
                    <a:pt x="1" y="1728"/>
                  </a:lnTo>
                  <a:lnTo>
                    <a:pt x="1" y="1789"/>
                  </a:lnTo>
                  <a:lnTo>
                    <a:pt x="5753" y="1789"/>
                  </a:lnTo>
                  <a:lnTo>
                    <a:pt x="5753" y="1836"/>
                  </a:lnTo>
                  <a:lnTo>
                    <a:pt x="1" y="1836"/>
                  </a:lnTo>
                  <a:lnTo>
                    <a:pt x="1" y="1896"/>
                  </a:lnTo>
                  <a:lnTo>
                    <a:pt x="5753" y="1896"/>
                  </a:lnTo>
                  <a:lnTo>
                    <a:pt x="5753" y="1944"/>
                  </a:lnTo>
                  <a:lnTo>
                    <a:pt x="1" y="1944"/>
                  </a:lnTo>
                  <a:lnTo>
                    <a:pt x="1" y="2005"/>
                  </a:lnTo>
                  <a:lnTo>
                    <a:pt x="5753" y="2004"/>
                  </a:lnTo>
                  <a:lnTo>
                    <a:pt x="5753" y="2052"/>
                  </a:lnTo>
                  <a:lnTo>
                    <a:pt x="1" y="2052"/>
                  </a:lnTo>
                  <a:lnTo>
                    <a:pt x="1" y="2113"/>
                  </a:lnTo>
                  <a:lnTo>
                    <a:pt x="5753" y="2112"/>
                  </a:lnTo>
                  <a:lnTo>
                    <a:pt x="5753" y="2161"/>
                  </a:lnTo>
                  <a:lnTo>
                    <a:pt x="1" y="2160"/>
                  </a:lnTo>
                  <a:lnTo>
                    <a:pt x="1" y="2220"/>
                  </a:lnTo>
                  <a:lnTo>
                    <a:pt x="5753" y="2220"/>
                  </a:lnTo>
                  <a:lnTo>
                    <a:pt x="5753" y="2268"/>
                  </a:lnTo>
                  <a:lnTo>
                    <a:pt x="1" y="2268"/>
                  </a:lnTo>
                  <a:lnTo>
                    <a:pt x="1" y="2328"/>
                  </a:lnTo>
                  <a:lnTo>
                    <a:pt x="5753" y="2328"/>
                  </a:lnTo>
                  <a:lnTo>
                    <a:pt x="5753" y="2376"/>
                  </a:lnTo>
                  <a:lnTo>
                    <a:pt x="1" y="2376"/>
                  </a:lnTo>
                  <a:lnTo>
                    <a:pt x="1" y="2437"/>
                  </a:lnTo>
                  <a:lnTo>
                    <a:pt x="5753" y="2436"/>
                  </a:lnTo>
                  <a:lnTo>
                    <a:pt x="5753" y="2484"/>
                  </a:lnTo>
                  <a:lnTo>
                    <a:pt x="1" y="2484"/>
                  </a:lnTo>
                  <a:lnTo>
                    <a:pt x="1" y="2545"/>
                  </a:lnTo>
                  <a:lnTo>
                    <a:pt x="5753" y="2545"/>
                  </a:lnTo>
                  <a:lnTo>
                    <a:pt x="5753" y="2592"/>
                  </a:lnTo>
                  <a:lnTo>
                    <a:pt x="1" y="2592"/>
                  </a:lnTo>
                  <a:lnTo>
                    <a:pt x="1" y="2652"/>
                  </a:lnTo>
                  <a:lnTo>
                    <a:pt x="5753" y="2652"/>
                  </a:lnTo>
                  <a:lnTo>
                    <a:pt x="5753" y="2700"/>
                  </a:lnTo>
                  <a:lnTo>
                    <a:pt x="1" y="2700"/>
                  </a:lnTo>
                  <a:lnTo>
                    <a:pt x="1" y="2761"/>
                  </a:lnTo>
                  <a:lnTo>
                    <a:pt x="5753" y="2760"/>
                  </a:lnTo>
                  <a:lnTo>
                    <a:pt x="5753" y="2808"/>
                  </a:lnTo>
                  <a:lnTo>
                    <a:pt x="1" y="2808"/>
                  </a:lnTo>
                  <a:lnTo>
                    <a:pt x="1" y="2868"/>
                  </a:lnTo>
                  <a:lnTo>
                    <a:pt x="5753" y="2868"/>
                  </a:lnTo>
                  <a:lnTo>
                    <a:pt x="5753" y="2917"/>
                  </a:lnTo>
                  <a:lnTo>
                    <a:pt x="0" y="2917"/>
                  </a:lnTo>
                  <a:lnTo>
                    <a:pt x="1" y="2977"/>
                  </a:lnTo>
                  <a:lnTo>
                    <a:pt x="5753" y="2976"/>
                  </a:lnTo>
                  <a:lnTo>
                    <a:pt x="5753" y="3024"/>
                  </a:lnTo>
                  <a:lnTo>
                    <a:pt x="1" y="3024"/>
                  </a:lnTo>
                  <a:lnTo>
                    <a:pt x="1" y="3084"/>
                  </a:lnTo>
                  <a:lnTo>
                    <a:pt x="5753" y="3084"/>
                  </a:lnTo>
                  <a:lnTo>
                    <a:pt x="5753" y="3132"/>
                  </a:lnTo>
                  <a:lnTo>
                    <a:pt x="1" y="3132"/>
                  </a:lnTo>
                  <a:lnTo>
                    <a:pt x="1" y="3192"/>
                  </a:lnTo>
                  <a:lnTo>
                    <a:pt x="5753" y="3192"/>
                  </a:lnTo>
                  <a:lnTo>
                    <a:pt x="5753" y="3240"/>
                  </a:lnTo>
                  <a:lnTo>
                    <a:pt x="1" y="3240"/>
                  </a:lnTo>
                  <a:lnTo>
                    <a:pt x="1" y="3301"/>
                  </a:lnTo>
                  <a:lnTo>
                    <a:pt x="5753" y="3300"/>
                  </a:lnTo>
                  <a:lnTo>
                    <a:pt x="5753" y="3348"/>
                  </a:lnTo>
                  <a:lnTo>
                    <a:pt x="1" y="3348"/>
                  </a:lnTo>
                  <a:lnTo>
                    <a:pt x="1" y="3408"/>
                  </a:lnTo>
                  <a:lnTo>
                    <a:pt x="5753" y="3409"/>
                  </a:lnTo>
                  <a:lnTo>
                    <a:pt x="5753" y="3457"/>
                  </a:lnTo>
                  <a:lnTo>
                    <a:pt x="1" y="3456"/>
                  </a:lnTo>
                  <a:lnTo>
                    <a:pt x="1" y="3517"/>
                  </a:lnTo>
                  <a:lnTo>
                    <a:pt x="5753" y="3516"/>
                  </a:lnTo>
                  <a:lnTo>
                    <a:pt x="5753" y="3565"/>
                  </a:lnTo>
                  <a:lnTo>
                    <a:pt x="1" y="3565"/>
                  </a:lnTo>
                  <a:lnTo>
                    <a:pt x="1" y="3624"/>
                  </a:lnTo>
                  <a:lnTo>
                    <a:pt x="5753" y="3625"/>
                  </a:lnTo>
                  <a:lnTo>
                    <a:pt x="5753" y="3673"/>
                  </a:lnTo>
                  <a:lnTo>
                    <a:pt x="1" y="3672"/>
                  </a:lnTo>
                  <a:lnTo>
                    <a:pt x="1" y="3733"/>
                  </a:lnTo>
                  <a:lnTo>
                    <a:pt x="5753" y="3733"/>
                  </a:lnTo>
                  <a:lnTo>
                    <a:pt x="5753" y="3781"/>
                  </a:lnTo>
                  <a:lnTo>
                    <a:pt x="1" y="3781"/>
                  </a:lnTo>
                  <a:lnTo>
                    <a:pt x="1" y="3841"/>
                  </a:lnTo>
                  <a:lnTo>
                    <a:pt x="5753" y="3841"/>
                  </a:lnTo>
                  <a:lnTo>
                    <a:pt x="5753" y="388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Predict,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8595-4244-45D8-96D8-6C8B9E85F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34640" cy="6845400"/>
            <a:chOff x="0" y="0"/>
            <a:chExt cx="9134640" cy="68454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115920"/>
              <a:ext cx="9134640" cy="6613560"/>
            </a:xfrm>
            <a:custGeom>
              <a:avLst/>
              <a:gdLst/>
              <a:ahLst/>
              <a:rect l="l" t="t" r="r" b="b"/>
              <a:pathLst>
                <a:path w="5754" h="4166">
                  <a:moveTo>
                    <a:pt x="5753" y="3889"/>
                  </a:moveTo>
                  <a:lnTo>
                    <a:pt x="1" y="3888"/>
                  </a:lnTo>
                  <a:lnTo>
                    <a:pt x="1" y="3948"/>
                  </a:lnTo>
                  <a:lnTo>
                    <a:pt x="5753" y="3948"/>
                  </a:lnTo>
                  <a:lnTo>
                    <a:pt x="5753" y="3996"/>
                  </a:lnTo>
                  <a:lnTo>
                    <a:pt x="1" y="3997"/>
                  </a:lnTo>
                  <a:lnTo>
                    <a:pt x="1" y="4056"/>
                  </a:lnTo>
                  <a:lnTo>
                    <a:pt x="5753" y="4056"/>
                  </a:lnTo>
                  <a:lnTo>
                    <a:pt x="5753" y="4105"/>
                  </a:lnTo>
                  <a:lnTo>
                    <a:pt x="1" y="4104"/>
                  </a:lnTo>
                  <a:lnTo>
                    <a:pt x="1" y="4165"/>
                  </a:lnTo>
                  <a:lnTo>
                    <a:pt x="5753" y="4165"/>
                  </a:lnTo>
                  <a:lnTo>
                    <a:pt x="5753" y="0"/>
                  </a:lnTo>
                  <a:lnTo>
                    <a:pt x="1" y="0"/>
                  </a:lnTo>
                  <a:lnTo>
                    <a:pt x="1" y="61"/>
                  </a:lnTo>
                  <a:lnTo>
                    <a:pt x="5753" y="60"/>
                  </a:lnTo>
                  <a:lnTo>
                    <a:pt x="5753" y="108"/>
                  </a:lnTo>
                  <a:lnTo>
                    <a:pt x="1" y="108"/>
                  </a:lnTo>
                  <a:lnTo>
                    <a:pt x="1" y="168"/>
                  </a:lnTo>
                  <a:lnTo>
                    <a:pt x="5753" y="169"/>
                  </a:lnTo>
                  <a:lnTo>
                    <a:pt x="5753" y="216"/>
                  </a:lnTo>
                  <a:lnTo>
                    <a:pt x="1" y="216"/>
                  </a:lnTo>
                  <a:lnTo>
                    <a:pt x="1" y="276"/>
                  </a:lnTo>
                  <a:lnTo>
                    <a:pt x="5753" y="277"/>
                  </a:lnTo>
                  <a:lnTo>
                    <a:pt x="5753" y="324"/>
                  </a:lnTo>
                  <a:lnTo>
                    <a:pt x="1" y="324"/>
                  </a:lnTo>
                  <a:lnTo>
                    <a:pt x="1" y="384"/>
                  </a:lnTo>
                  <a:lnTo>
                    <a:pt x="5753" y="384"/>
                  </a:lnTo>
                  <a:lnTo>
                    <a:pt x="5753" y="432"/>
                  </a:lnTo>
                  <a:lnTo>
                    <a:pt x="1" y="432"/>
                  </a:lnTo>
                  <a:lnTo>
                    <a:pt x="1" y="492"/>
                  </a:lnTo>
                  <a:lnTo>
                    <a:pt x="5753" y="493"/>
                  </a:lnTo>
                  <a:lnTo>
                    <a:pt x="5753" y="540"/>
                  </a:lnTo>
                  <a:lnTo>
                    <a:pt x="1" y="540"/>
                  </a:lnTo>
                  <a:lnTo>
                    <a:pt x="1" y="600"/>
                  </a:lnTo>
                  <a:lnTo>
                    <a:pt x="5753" y="600"/>
                  </a:lnTo>
                  <a:lnTo>
                    <a:pt x="5753" y="648"/>
                  </a:lnTo>
                  <a:lnTo>
                    <a:pt x="1" y="648"/>
                  </a:lnTo>
                  <a:lnTo>
                    <a:pt x="1" y="708"/>
                  </a:lnTo>
                  <a:lnTo>
                    <a:pt x="5753" y="709"/>
                  </a:lnTo>
                  <a:lnTo>
                    <a:pt x="5753" y="756"/>
                  </a:lnTo>
                  <a:lnTo>
                    <a:pt x="1" y="756"/>
                  </a:lnTo>
                  <a:lnTo>
                    <a:pt x="1" y="816"/>
                  </a:lnTo>
                  <a:lnTo>
                    <a:pt x="5753" y="817"/>
                  </a:lnTo>
                  <a:lnTo>
                    <a:pt x="5753" y="865"/>
                  </a:lnTo>
                  <a:lnTo>
                    <a:pt x="1" y="864"/>
                  </a:lnTo>
                  <a:lnTo>
                    <a:pt x="1" y="925"/>
                  </a:lnTo>
                  <a:lnTo>
                    <a:pt x="5753" y="925"/>
                  </a:lnTo>
                  <a:lnTo>
                    <a:pt x="5753" y="973"/>
                  </a:lnTo>
                  <a:lnTo>
                    <a:pt x="1" y="972"/>
                  </a:lnTo>
                  <a:lnTo>
                    <a:pt x="1" y="1032"/>
                  </a:lnTo>
                  <a:lnTo>
                    <a:pt x="5753" y="1033"/>
                  </a:lnTo>
                  <a:lnTo>
                    <a:pt x="5753" y="1080"/>
                  </a:lnTo>
                  <a:lnTo>
                    <a:pt x="1" y="1080"/>
                  </a:lnTo>
                  <a:lnTo>
                    <a:pt x="1" y="1140"/>
                  </a:lnTo>
                  <a:lnTo>
                    <a:pt x="5753" y="1140"/>
                  </a:lnTo>
                  <a:lnTo>
                    <a:pt x="5753" y="1188"/>
                  </a:lnTo>
                  <a:lnTo>
                    <a:pt x="1" y="1188"/>
                  </a:lnTo>
                  <a:lnTo>
                    <a:pt x="1" y="1248"/>
                  </a:lnTo>
                  <a:lnTo>
                    <a:pt x="5753" y="1248"/>
                  </a:lnTo>
                  <a:lnTo>
                    <a:pt x="5753" y="1296"/>
                  </a:lnTo>
                  <a:lnTo>
                    <a:pt x="1" y="1297"/>
                  </a:lnTo>
                  <a:lnTo>
                    <a:pt x="1" y="1357"/>
                  </a:lnTo>
                  <a:lnTo>
                    <a:pt x="5753" y="1356"/>
                  </a:lnTo>
                  <a:lnTo>
                    <a:pt x="5753" y="1404"/>
                  </a:lnTo>
                  <a:lnTo>
                    <a:pt x="1" y="1404"/>
                  </a:lnTo>
                  <a:lnTo>
                    <a:pt x="1" y="1465"/>
                  </a:lnTo>
                  <a:lnTo>
                    <a:pt x="5753" y="1464"/>
                  </a:lnTo>
                  <a:lnTo>
                    <a:pt x="5753" y="1512"/>
                  </a:lnTo>
                  <a:lnTo>
                    <a:pt x="1" y="1512"/>
                  </a:lnTo>
                  <a:lnTo>
                    <a:pt x="1" y="1572"/>
                  </a:lnTo>
                  <a:lnTo>
                    <a:pt x="5753" y="1572"/>
                  </a:lnTo>
                  <a:lnTo>
                    <a:pt x="5753" y="1620"/>
                  </a:lnTo>
                  <a:lnTo>
                    <a:pt x="1" y="1620"/>
                  </a:lnTo>
                  <a:lnTo>
                    <a:pt x="1" y="1680"/>
                  </a:lnTo>
                  <a:lnTo>
                    <a:pt x="5753" y="1681"/>
                  </a:lnTo>
                  <a:lnTo>
                    <a:pt x="5753" y="1728"/>
                  </a:lnTo>
                  <a:lnTo>
                    <a:pt x="1" y="1728"/>
                  </a:lnTo>
                  <a:lnTo>
                    <a:pt x="1" y="1789"/>
                  </a:lnTo>
                  <a:lnTo>
                    <a:pt x="5753" y="1789"/>
                  </a:lnTo>
                  <a:lnTo>
                    <a:pt x="5753" y="1836"/>
                  </a:lnTo>
                  <a:lnTo>
                    <a:pt x="1" y="1836"/>
                  </a:lnTo>
                  <a:lnTo>
                    <a:pt x="1" y="1896"/>
                  </a:lnTo>
                  <a:lnTo>
                    <a:pt x="5753" y="1896"/>
                  </a:lnTo>
                  <a:lnTo>
                    <a:pt x="5753" y="1944"/>
                  </a:lnTo>
                  <a:lnTo>
                    <a:pt x="1" y="1944"/>
                  </a:lnTo>
                  <a:lnTo>
                    <a:pt x="1" y="2005"/>
                  </a:lnTo>
                  <a:lnTo>
                    <a:pt x="5753" y="2004"/>
                  </a:lnTo>
                  <a:lnTo>
                    <a:pt x="5753" y="2052"/>
                  </a:lnTo>
                  <a:lnTo>
                    <a:pt x="1" y="2052"/>
                  </a:lnTo>
                  <a:lnTo>
                    <a:pt x="1" y="2113"/>
                  </a:lnTo>
                  <a:lnTo>
                    <a:pt x="5753" y="2112"/>
                  </a:lnTo>
                  <a:lnTo>
                    <a:pt x="5753" y="2161"/>
                  </a:lnTo>
                  <a:lnTo>
                    <a:pt x="1" y="2160"/>
                  </a:lnTo>
                  <a:lnTo>
                    <a:pt x="1" y="2220"/>
                  </a:lnTo>
                  <a:lnTo>
                    <a:pt x="5753" y="2220"/>
                  </a:lnTo>
                  <a:lnTo>
                    <a:pt x="5753" y="2268"/>
                  </a:lnTo>
                  <a:lnTo>
                    <a:pt x="1" y="2268"/>
                  </a:lnTo>
                  <a:lnTo>
                    <a:pt x="1" y="2328"/>
                  </a:lnTo>
                  <a:lnTo>
                    <a:pt x="5753" y="2328"/>
                  </a:lnTo>
                  <a:lnTo>
                    <a:pt x="5753" y="2376"/>
                  </a:lnTo>
                  <a:lnTo>
                    <a:pt x="1" y="2376"/>
                  </a:lnTo>
                  <a:lnTo>
                    <a:pt x="1" y="2437"/>
                  </a:lnTo>
                  <a:lnTo>
                    <a:pt x="5753" y="2436"/>
                  </a:lnTo>
                  <a:lnTo>
                    <a:pt x="5753" y="2484"/>
                  </a:lnTo>
                  <a:lnTo>
                    <a:pt x="1" y="2484"/>
                  </a:lnTo>
                  <a:lnTo>
                    <a:pt x="1" y="2545"/>
                  </a:lnTo>
                  <a:lnTo>
                    <a:pt x="5753" y="2545"/>
                  </a:lnTo>
                  <a:lnTo>
                    <a:pt x="5753" y="2592"/>
                  </a:lnTo>
                  <a:lnTo>
                    <a:pt x="1" y="2592"/>
                  </a:lnTo>
                  <a:lnTo>
                    <a:pt x="1" y="2652"/>
                  </a:lnTo>
                  <a:lnTo>
                    <a:pt x="5753" y="2652"/>
                  </a:lnTo>
                  <a:lnTo>
                    <a:pt x="5753" y="2700"/>
                  </a:lnTo>
                  <a:lnTo>
                    <a:pt x="1" y="2700"/>
                  </a:lnTo>
                  <a:lnTo>
                    <a:pt x="1" y="2761"/>
                  </a:lnTo>
                  <a:lnTo>
                    <a:pt x="5753" y="2760"/>
                  </a:lnTo>
                  <a:lnTo>
                    <a:pt x="5753" y="2808"/>
                  </a:lnTo>
                  <a:lnTo>
                    <a:pt x="1" y="2808"/>
                  </a:lnTo>
                  <a:lnTo>
                    <a:pt x="1" y="2868"/>
                  </a:lnTo>
                  <a:lnTo>
                    <a:pt x="5753" y="2868"/>
                  </a:lnTo>
                  <a:lnTo>
                    <a:pt x="5753" y="2917"/>
                  </a:lnTo>
                  <a:lnTo>
                    <a:pt x="0" y="2917"/>
                  </a:lnTo>
                  <a:lnTo>
                    <a:pt x="1" y="2977"/>
                  </a:lnTo>
                  <a:lnTo>
                    <a:pt x="5753" y="2976"/>
                  </a:lnTo>
                  <a:lnTo>
                    <a:pt x="5753" y="3024"/>
                  </a:lnTo>
                  <a:lnTo>
                    <a:pt x="1" y="3024"/>
                  </a:lnTo>
                  <a:lnTo>
                    <a:pt x="1" y="3084"/>
                  </a:lnTo>
                  <a:lnTo>
                    <a:pt x="5753" y="3084"/>
                  </a:lnTo>
                  <a:lnTo>
                    <a:pt x="5753" y="3132"/>
                  </a:lnTo>
                  <a:lnTo>
                    <a:pt x="1" y="3132"/>
                  </a:lnTo>
                  <a:lnTo>
                    <a:pt x="1" y="3192"/>
                  </a:lnTo>
                  <a:lnTo>
                    <a:pt x="5753" y="3192"/>
                  </a:lnTo>
                  <a:lnTo>
                    <a:pt x="5753" y="3240"/>
                  </a:lnTo>
                  <a:lnTo>
                    <a:pt x="1" y="3240"/>
                  </a:lnTo>
                  <a:lnTo>
                    <a:pt x="1" y="3301"/>
                  </a:lnTo>
                  <a:lnTo>
                    <a:pt x="5753" y="3300"/>
                  </a:lnTo>
                  <a:lnTo>
                    <a:pt x="5753" y="3348"/>
                  </a:lnTo>
                  <a:lnTo>
                    <a:pt x="1" y="3348"/>
                  </a:lnTo>
                  <a:lnTo>
                    <a:pt x="1" y="3408"/>
                  </a:lnTo>
                  <a:lnTo>
                    <a:pt x="5753" y="3409"/>
                  </a:lnTo>
                  <a:lnTo>
                    <a:pt x="5753" y="3457"/>
                  </a:lnTo>
                  <a:lnTo>
                    <a:pt x="1" y="3456"/>
                  </a:lnTo>
                  <a:lnTo>
                    <a:pt x="1" y="3517"/>
                  </a:lnTo>
                  <a:lnTo>
                    <a:pt x="5753" y="3516"/>
                  </a:lnTo>
                  <a:lnTo>
                    <a:pt x="5753" y="3565"/>
                  </a:lnTo>
                  <a:lnTo>
                    <a:pt x="1" y="3565"/>
                  </a:lnTo>
                  <a:lnTo>
                    <a:pt x="1" y="3624"/>
                  </a:lnTo>
                  <a:lnTo>
                    <a:pt x="5753" y="3625"/>
                  </a:lnTo>
                  <a:lnTo>
                    <a:pt x="5753" y="3673"/>
                  </a:lnTo>
                  <a:lnTo>
                    <a:pt x="1" y="3672"/>
                  </a:lnTo>
                  <a:lnTo>
                    <a:pt x="1" y="3733"/>
                  </a:lnTo>
                  <a:lnTo>
                    <a:pt x="5753" y="3733"/>
                  </a:lnTo>
                  <a:lnTo>
                    <a:pt x="5753" y="3781"/>
                  </a:lnTo>
                  <a:lnTo>
                    <a:pt x="1" y="3781"/>
                  </a:lnTo>
                  <a:lnTo>
                    <a:pt x="1" y="3841"/>
                  </a:lnTo>
                  <a:lnTo>
                    <a:pt x="5753" y="3841"/>
                  </a:lnTo>
                  <a:lnTo>
                    <a:pt x="5753" y="388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1EE2-6749-4198-9661-CE48DEC34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5280" y="523440"/>
            <a:ext cx="777240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File-Transfer During 0.24% Los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1612" t="16779" r="39474" b="6987"/>
          <a:stretch/>
        </p:blipFill>
        <p:spPr>
          <a:xfrm>
            <a:off x="730080" y="3911760"/>
            <a:ext cx="7580520" cy="2179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rcRect l="1800" t="3823" r="1961" b="4962"/>
          <a:stretch/>
        </p:blipFill>
        <p:spPr>
          <a:xfrm>
            <a:off x="934920" y="1476360"/>
            <a:ext cx="68137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66200"/>
            <a:ext cx="7772400" cy="53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99"/>
                </a:solidFill>
                <a:latin typeface="Arial"/>
              </a:rPr>
              <a:t>Allocation of Probability Distributions</a:t>
            </a:r>
            <a:endParaRPr b="0" lang="en-US" sz="3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76760" y="1899360"/>
            <a:ext cx="183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TT for lar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ket + 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4040" y="4923360"/>
            <a:ext cx="2401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spent b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er at 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each data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2853" t="4772" r="3375" b="5573"/>
          <a:stretch/>
        </p:blipFill>
        <p:spPr>
          <a:xfrm>
            <a:off x="4143240" y="3819600"/>
            <a:ext cx="4835520" cy="3012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rcRect l="2430" t="3662" r="2430" b="3844"/>
          <a:stretch/>
        </p:blipFill>
        <p:spPr>
          <a:xfrm>
            <a:off x="357120" y="1103400"/>
            <a:ext cx="4873680" cy="2797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562720" y="5384880"/>
            <a:ext cx="22222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09:48Z</dcterms:created>
  <dc:creator>Bjorn Frogner</dc:creator>
  <dc:description/>
  <dc:language>en-US</dc:language>
  <cp:lastModifiedBy>Alex Cannara</cp:lastModifiedBy>
  <cp:lastPrinted>1999-02-08T00:48:46Z</cp:lastPrinted>
  <dcterms:modified xsi:type="dcterms:W3CDTF">1999-03-09T19:00:08Z</dcterms:modified>
  <cp:revision>865</cp:revision>
  <dc:subject>Network Management</dc:subject>
  <dc:title>Network Management by NetPredict, Inc</dc:title>
</cp:coreProperties>
</file>